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983B-2718-472E-86B4-39A666734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6E3E-EFB0-469A-AA62-2D0842D9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C7DD-A1B5-45DB-AEE2-88D84A1DB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D749-AC48-4C36-89B1-C7CBCE85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5641-4FD1-4518-B8CF-C65AE2EA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BFC3-363B-4E68-94FA-8835FF07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17A8-6E2F-44BC-995D-77E65BAC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89A8-3641-43BC-9D68-F4378565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8328-BD04-413C-903D-D38742BD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0A4C-79A7-4DCB-967A-0AB180D7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F83E-4499-4B44-9A75-BD48AEF7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8B00-883F-441D-917E-36AE3295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848C-EACC-4344-BE52-9AAA7A1B2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37840" y="217440"/>
            <a:ext cx="442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ural tub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57680" y="12193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44600" y="5222880"/>
            <a:ext cx="839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ral plate-&gt; neural keel-&gt; neural rod-&gt; neural tube-&gt; spinal 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eds in and anterior to posterior fash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The image “http://www.ans.iastate.edu/research/reecy/images/reecy/reecy_image5.gif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3838680" y="457200"/>
            <a:ext cx="3247920" cy="532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78800" y="3657600"/>
            <a:ext cx="15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ural c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95480" y="3352320"/>
            <a:ext cx="4572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38862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60440" y="1411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r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601992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wo fields fuse into a tube, which undergoes looping and addition of neural crest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21:56:26Z</dcterms:created>
  <dc:creator>Melissa Haendel</dc:creator>
  <dc:description/>
  <dc:language>en-US</dc:language>
  <cp:lastModifiedBy>zfin user</cp:lastModifiedBy>
  <dcterms:modified xsi:type="dcterms:W3CDTF">2008-05-19T20:50:24Z</dcterms:modified>
  <cp:revision>5</cp:revision>
  <dc:subject/>
  <dc:title>Slide 1</dc:title>
</cp:coreProperties>
</file>